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C365-4B74-44A2-BC5D-4CCB4CC0C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B034-C031-40F7-BA7A-18FB53160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3FCD-DCFD-4164-9D73-C29E16962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AB0-3590-4EB7-8117-0470C7CD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73A-8B1E-46E4-8718-4A12C17E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608-B1A4-47B3-9AAF-E6C72242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4F0-B30A-47BF-9BAA-897F590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CA81-63E3-4BF8-B568-5D9D1A51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8E3-D146-465C-B038-4AE6F93B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CF6-B8D3-4C16-8FBC-53FAF929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91F3-FDB9-40FC-B957-87592DE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114C-7C76-4C64-B382-6292D33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B72D-8C52-4EA7-9727-E9149EA4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7D9C-8D8A-4DA0-850D-9B3107AC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F18-ED06-4928-937C-CF9A524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EBD7-C6F1-4457-9C20-F5011DAA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E70A-6359-4999-813A-9AA6636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91E3-8EE8-472B-B722-C6B4F42E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0E4F-56F4-4C53-AEC7-56FC8845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A89C-F965-4D60-A120-ABB1A9A2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824B-0930-4790-9ACB-E6780AEF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1757-311A-43A9-9ED5-A70C7161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32CA-262C-4556-949C-E27D3B4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542A-4D7F-4170-87F9-E6553E66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E707-563E-4D7E-8F27-516EBA99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2A8-E259-4E2F-AC7B-142713B5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8041-844F-43A1-BCED-01D2FB4A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285D-01FE-4529-9BCA-9D5F124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FAF4-8CB3-43A4-BA51-F2D8801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CB9B-7658-4982-A4DD-919E370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5F6B-9E0F-4A16-998D-4B674FF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8472-296D-43D2-A53A-C0D944F4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81F8-5CB0-447F-A868-7F402CD8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A0A0-91EE-475A-AFAF-2728447F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108B-CEC2-406B-BC47-C87F3CD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D63B-4CBA-4ED9-AFB4-5EF4E163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44D-C5DE-41AD-A685-9C17A28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58BE-C610-4C44-A43E-C1EA0AE1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DD3BD-4A0D-438D-A628-216A77D1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60F4-2313-46B4-A898-6D75F2D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0266-A58A-4FD4-9F05-A664E46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6D48-0DC6-4BC8-B97B-60D683E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E9FA-427D-4ABD-971A-079354B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BAD8-CD5F-4869-9716-8D578DA5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95D4-D761-404A-B69B-3E5A1EA2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7D60-4DE7-47F7-A0DC-2E3135F8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276A-0707-4C71-840F-9753FFE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E57-BDD9-46FC-AECE-EC80D909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4128-C1DB-475E-A81E-388246B8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DF54C-E1FE-4FDB-9DE0-EF609F3C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D31D-89D4-4343-BBE6-B4E8C17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BE2BC-6414-472F-9BCD-7B87E465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49E57-8308-416D-9CE0-66ED6264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FB8D-4B87-4933-BC2B-93B7F3DD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F5C5-102B-4A5A-A0D4-37B73F0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B687-9449-4232-9CFE-C778B07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F967-2B1C-4D6F-AC72-4EF0EAF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C6906-4290-437D-BFF6-E2331F47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CC7-CC98-4263-9ABA-D1B28D78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964E-2D06-40C4-9232-13206F9B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9A05-E003-4648-AC55-457B1276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F78B6-0D2E-4197-B46E-6C2B409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0086-0455-4636-8216-419DF53B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8D2DB-00F7-4230-8CAF-8220EF1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BB4A-B8C3-435B-8C9D-D4BC30A5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CB90-08F3-4255-AD88-524C6E67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D4A6F-4F7D-404C-8C01-E7D13A1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A675-58C7-4BF9-AEEB-7EC88051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56BB-C7A8-4128-BE10-44198816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DE9-235C-4F60-BAA6-F2BD6AF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633EC-63BA-4511-A1DD-F907BDE0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54F13-E2FD-48EA-BCA6-2ED671EF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1A55-88D2-4E40-B5C9-1A404AED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38E70-E542-473C-A239-DA0B84B3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24D4-6232-44A5-9528-2B450CA6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E9540-D194-4AE2-B657-29D903E8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9AA48-B70D-4470-A3AF-6F4E2F8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44FC-7D2E-4247-B83A-10DCFA57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63A7-769E-42E3-929D-517F28CF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15E5E-A1B5-4F8A-A5AD-DE06F14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53D-CF9A-4E00-8986-6A72D15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8C034-190C-49BB-BC38-419E929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B451-DAB0-4619-93CD-1F12449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01F7-5925-492B-BA3C-C59A8098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E28B0-D4C1-4FFA-9895-73306E03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CCF1-96D8-4D7D-9AE3-12232BAD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F5D-801D-4990-BFBF-0EF8D25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216-8E44-42F5-9F8F-70F39AC15CF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AB49-2095-4B59-8227-077D9C0A278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0C3F-D21F-44C3-927D-EA0CA96881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E83-AD2D-46CF-96D8-CBAC86BD762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6B69-F422-4EB7-ADA5-CC3B41DF51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1F7-B610-4334-8F23-D40CEE5430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5AE1-168B-4F65-84C9-2299C795AB1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ItjtWd0Sp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e9X4sDHeo4&amp;feature=fvs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ertilization and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2" descr="http://www.visualphotos.com/photo/1x3747571/fertilization_fertilization_colored_scanning_p8552.jpg"/>
          <p:cNvPicPr/>
          <p:nvPr/>
        </p:nvPicPr>
        <p:blipFill>
          <a:blip r:embed="rId1"/>
          <a:stretch/>
        </p:blipFill>
        <p:spPr>
          <a:xfrm>
            <a:off x="1066680" y="2971800"/>
            <a:ext cx="4114800" cy="2832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http://worms.zoology.wisc.edu/urchins/su_egg_%26_sperm.gif"/>
          <p:cNvPicPr/>
          <p:nvPr/>
        </p:nvPicPr>
        <p:blipFill>
          <a:blip r:embed="rId2"/>
          <a:stretch/>
        </p:blipFill>
        <p:spPr>
          <a:xfrm>
            <a:off x="6095880" y="2133720"/>
            <a:ext cx="260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9" descr="p1018a"/>
          <p:cNvPicPr/>
          <p:nvPr/>
        </p:nvPicPr>
        <p:blipFill>
          <a:blip r:embed="rId1"/>
          <a:stretch/>
        </p:blipFill>
        <p:spPr>
          <a:xfrm>
            <a:off x="2733840" y="380880"/>
            <a:ext cx="4825800" cy="4314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p1018arrows"/>
          <p:cNvPicPr/>
          <p:nvPr/>
        </p:nvPicPr>
        <p:blipFill>
          <a:blip r:embed="rId2"/>
          <a:stretch/>
        </p:blipFill>
        <p:spPr>
          <a:xfrm>
            <a:off x="3805200" y="1766880"/>
            <a:ext cx="2284560" cy="1025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0" descr="p1018b"/>
          <p:cNvPicPr/>
          <p:nvPr/>
        </p:nvPicPr>
        <p:blipFill>
          <a:blip r:embed="rId3"/>
          <a:stretch/>
        </p:blipFill>
        <p:spPr>
          <a:xfrm>
            <a:off x="2743200" y="380880"/>
            <a:ext cx="4799160" cy="42912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9"/>
          <p:cNvSpPr/>
          <p:nvPr/>
        </p:nvSpPr>
        <p:spPr>
          <a:xfrm>
            <a:off x="7164000" y="2401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0"/>
          <p:cNvSpPr/>
          <p:nvPr/>
        </p:nvSpPr>
        <p:spPr>
          <a:xfrm>
            <a:off x="5448240" y="2440080"/>
            <a:ext cx="17035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1204920" y="101124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tic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1244520" y="1798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t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1273680" y="27432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1236600" y="36259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5"/>
          <p:cNvSpPr/>
          <p:nvPr/>
        </p:nvSpPr>
        <p:spPr>
          <a:xfrm>
            <a:off x="3011400" y="1227240"/>
            <a:ext cx="14414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6"/>
          <p:cNvSpPr/>
          <p:nvPr/>
        </p:nvSpPr>
        <p:spPr>
          <a:xfrm flipV="1">
            <a:off x="2236680" y="2130480"/>
            <a:ext cx="2583000" cy="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 flipV="1">
            <a:off x="2522520" y="2325240"/>
            <a:ext cx="949320" cy="58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 flipV="1">
            <a:off x="2465280" y="3308040"/>
            <a:ext cx="777960" cy="52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1"/>
          <p:cNvSpPr/>
          <p:nvPr/>
        </p:nvSpPr>
        <p:spPr>
          <a:xfrm>
            <a:off x="1219320" y="5029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mitive streak is where cell grow out of to form mesod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99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ur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47560" y="762120"/>
            <a:ext cx="74991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mation of the C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ock of mesoderm differentiates into notochord – eventually becoming the sp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5" descr="sb7017a2_01"/>
          <p:cNvPicPr/>
          <p:nvPr/>
        </p:nvPicPr>
        <p:blipFill>
          <a:blip r:embed="rId1"/>
          <a:stretch/>
        </p:blipFill>
        <p:spPr>
          <a:xfrm>
            <a:off x="2362320" y="2971800"/>
            <a:ext cx="487656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crest1"/>
          <p:cNvPicPr/>
          <p:nvPr/>
        </p:nvPicPr>
        <p:blipFill>
          <a:blip r:embed="rId1"/>
          <a:stretch/>
        </p:blipFill>
        <p:spPr>
          <a:xfrm>
            <a:off x="992160" y="2933640"/>
            <a:ext cx="6966000" cy="26607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crest2"/>
          <p:cNvPicPr/>
          <p:nvPr/>
        </p:nvPicPr>
        <p:blipFill>
          <a:blip r:embed="rId2"/>
          <a:stretch/>
        </p:blipFill>
        <p:spPr>
          <a:xfrm>
            <a:off x="909720" y="2789280"/>
            <a:ext cx="6910200" cy="2927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4"/>
          <p:cNvSpPr/>
          <p:nvPr/>
        </p:nvSpPr>
        <p:spPr>
          <a:xfrm>
            <a:off x="1361520" y="2496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5132160" y="2532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>
            <a:off x="2354400" y="2892600"/>
            <a:ext cx="880920" cy="87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H="1">
            <a:off x="4147920" y="2822400"/>
            <a:ext cx="1338120" cy="60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3230280" y="57434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o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>
            <a:off x="3884760" y="4844880"/>
            <a:ext cx="1440" cy="96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272880" y="109548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8596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s the notochord develops, the neural groove changes shape, producing neural 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crest2"/>
          <p:cNvPicPr/>
          <p:nvPr/>
        </p:nvPicPr>
        <p:blipFill>
          <a:blip r:embed="rId1"/>
          <a:stretch/>
        </p:blipFill>
        <p:spPr>
          <a:xfrm>
            <a:off x="1676520" y="3048120"/>
            <a:ext cx="6910200" cy="292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rest3"/>
          <p:cNvPicPr/>
          <p:nvPr/>
        </p:nvPicPr>
        <p:blipFill>
          <a:blip r:embed="rId2"/>
          <a:stretch/>
        </p:blipFill>
        <p:spPr>
          <a:xfrm>
            <a:off x="1371600" y="2971800"/>
            <a:ext cx="6664320" cy="35560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1875960" y="25909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5832720" y="25146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3124080" y="2971800"/>
            <a:ext cx="10191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"/>
          <p:cNvSpPr/>
          <p:nvPr/>
        </p:nvSpPr>
        <p:spPr>
          <a:xfrm flipH="1">
            <a:off x="4572000" y="2971800"/>
            <a:ext cx="1542960" cy="11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1183320" y="3200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2286000" y="3505320"/>
            <a:ext cx="59364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3787560" y="60199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o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 flipH="1">
            <a:off x="4495680" y="5105520"/>
            <a:ext cx="46080" cy="9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501480" y="304920"/>
            <a:ext cx="8642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8596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Gradually, these folds move together to create a neural tube from which the spinal cord and the nervous system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traembryonic Membra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ophoblast and mesoderm continue to develop, forming two membranes called amnion and the chor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mnion develops into a fluid-filled amniotic sac, which cushions and protects the developing embry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orion forms finger-like projections, connecting mother to fet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39_04_30_01"/>
          <p:cNvPicPr/>
          <p:nvPr/>
        </p:nvPicPr>
        <p:blipFill>
          <a:blip r:embed="rId1"/>
          <a:stretch/>
        </p:blipFill>
        <p:spPr>
          <a:xfrm>
            <a:off x="2590920" y="685800"/>
            <a:ext cx="3562200" cy="55198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424240" y="4343400"/>
            <a:ext cx="725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351160" y="4865760"/>
            <a:ext cx="8128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033720" y="5418000"/>
            <a:ext cx="75420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273400" y="427212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2166840" y="481500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3395520" y="5275440"/>
            <a:ext cx="15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4194000" y="439560"/>
            <a:ext cx="1349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5862600" y="846000"/>
            <a:ext cx="871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5862600" y="1557360"/>
            <a:ext cx="1379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4152960" y="376200"/>
            <a:ext cx="22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tic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5816520" y="803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5830920" y="1566720"/>
            <a:ext cx="24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39_04_30_02"/>
          <p:cNvPicPr/>
          <p:nvPr/>
        </p:nvPicPr>
        <p:blipFill>
          <a:blip r:embed="rId1"/>
          <a:stretch/>
        </p:blipFill>
        <p:spPr>
          <a:xfrm>
            <a:off x="2286000" y="1066680"/>
            <a:ext cx="4978440" cy="43228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1625760" y="1522440"/>
            <a:ext cx="1450800" cy="15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725400" y="4599000"/>
            <a:ext cx="15685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1117440" y="5151600"/>
            <a:ext cx="119088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7227720" y="3786120"/>
            <a:ext cx="987480" cy="13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3716280" y="593640"/>
            <a:ext cx="12193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5211720" y="608040"/>
            <a:ext cx="134928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502080" y="614520"/>
            <a:ext cx="16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al portion of 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5292720" y="5270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portion of 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7216920" y="3776760"/>
            <a:ext cx="16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7227720" y="450684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1225440" y="500364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1325520" y="43164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898560" y="280656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2120760" y="205596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887400" y="144144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ionic vil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9"/>
          <p:cNvSpPr/>
          <p:nvPr/>
        </p:nvSpPr>
        <p:spPr>
          <a:xfrm>
            <a:off x="1219320" y="578016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orionic villi and uterine lining form the plac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lacen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rves as embryo’s organ for respiration, nourishment,  and excre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tects fetus from many, but not all, harmful substa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uses such as HIV and substances such as alcohol pass throug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rst Trimes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bryo becomes fetus at eight wee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st major organs and tissues form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mbilical chord develops, connects baby to m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econd Trimes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eart can be heard with a stethoscop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ne replaces cartilage that forms the early skelet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ayer of soft hair grows over the fetus’s sk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etus grows and the mother can feel it mov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ertiliz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til this point, we have assumed that the released egg was not fertilized by a spe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if sperm are in the Fallopian tube, there is a chance that the egg will become ferti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rm attaches by finding binding sites on eg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yer containing sites then dissolves, removing possibility of polysperm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ird Trimes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etus doubles in ma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an now regulate its body tempera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ntral nervous system and lungs completely devel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Ges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ildbir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ther’s pituitary gland secretes oxytoc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uses rhythmic, involuntary contractions of muscles around uterine wa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known as labo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niotic sac will break (water breaking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ing to cervix expands, convulsions push baby out through vag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he Birth Video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haploid nuclei merge to form diploid zygo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begin to develop even before it reaches the uter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arly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vided into three stag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an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astru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uru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mplant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ter fertilization, zygote goes through a series of mitotic divisions, with very little time between e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ches around 64 cells (solid ball), called a moru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rula is not much larger than original single c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gins to hallow out, becomes blatoc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astocyst will secrete digestive enzymes to burrow into uterine lining (recall it should be thickest now) about one week after fertiliz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the impla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cause spotting for the fema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ovulation"/>
          <p:cNvPicPr/>
          <p:nvPr/>
        </p:nvPicPr>
        <p:blipFill>
          <a:blip r:embed="rId1"/>
          <a:stretch/>
        </p:blipFill>
        <p:spPr>
          <a:xfrm>
            <a:off x="2098800" y="2505240"/>
            <a:ext cx="5040360" cy="2690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ov1"/>
          <p:cNvPicPr/>
          <p:nvPr/>
        </p:nvPicPr>
        <p:blipFill>
          <a:blip r:embed="rId2"/>
          <a:stretch/>
        </p:blipFill>
        <p:spPr>
          <a:xfrm>
            <a:off x="423720" y="2557440"/>
            <a:ext cx="3103560" cy="1998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ov3"/>
          <p:cNvPicPr/>
          <p:nvPr/>
        </p:nvPicPr>
        <p:blipFill>
          <a:blip r:embed="rId3"/>
          <a:stretch/>
        </p:blipFill>
        <p:spPr>
          <a:xfrm>
            <a:off x="2565360" y="1138320"/>
            <a:ext cx="1225440" cy="2157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ov4"/>
          <p:cNvPicPr/>
          <p:nvPr/>
        </p:nvPicPr>
        <p:blipFill>
          <a:blip r:embed="rId4"/>
          <a:stretch/>
        </p:blipFill>
        <p:spPr>
          <a:xfrm>
            <a:off x="3251160" y="1384200"/>
            <a:ext cx="1638360" cy="1575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ov0"/>
          <p:cNvPicPr/>
          <p:nvPr/>
        </p:nvPicPr>
        <p:blipFill>
          <a:blip r:embed="rId5"/>
          <a:stretch/>
        </p:blipFill>
        <p:spPr>
          <a:xfrm>
            <a:off x="3040200" y="2155680"/>
            <a:ext cx="2906640" cy="2703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ov5"/>
          <p:cNvPicPr/>
          <p:nvPr/>
        </p:nvPicPr>
        <p:blipFill>
          <a:blip r:embed="rId6"/>
          <a:stretch/>
        </p:blipFill>
        <p:spPr>
          <a:xfrm>
            <a:off x="3768840" y="1685880"/>
            <a:ext cx="2030400" cy="1498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ov6"/>
          <p:cNvPicPr/>
          <p:nvPr/>
        </p:nvPicPr>
        <p:blipFill>
          <a:blip r:embed="rId7"/>
          <a:stretch/>
        </p:blipFill>
        <p:spPr>
          <a:xfrm>
            <a:off x="4681440" y="1600200"/>
            <a:ext cx="2824200" cy="1708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ov7"/>
          <p:cNvPicPr/>
          <p:nvPr/>
        </p:nvPicPr>
        <p:blipFill>
          <a:blip r:embed="rId8"/>
          <a:stretch/>
        </p:blipFill>
        <p:spPr>
          <a:xfrm>
            <a:off x="5970600" y="2182680"/>
            <a:ext cx="3173400" cy="2360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5"/>
          <p:cNvSpPr/>
          <p:nvPr/>
        </p:nvSpPr>
        <p:spPr>
          <a:xfrm>
            <a:off x="1803240" y="2654280"/>
            <a:ext cx="9540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ov2"/>
          <p:cNvPicPr/>
          <p:nvPr/>
        </p:nvPicPr>
        <p:blipFill>
          <a:blip r:embed="rId9"/>
          <a:stretch/>
        </p:blipFill>
        <p:spPr>
          <a:xfrm>
            <a:off x="1573200" y="1496880"/>
            <a:ext cx="1486080" cy="21132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7"/>
          <p:cNvSpPr/>
          <p:nvPr/>
        </p:nvSpPr>
        <p:spPr>
          <a:xfrm>
            <a:off x="1066680" y="56386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astocyst cells can begin to different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66320" y="456840"/>
            <a:ext cx="4203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uster of cells form inside blastoc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nner cell mass will become the embry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ophoblast surrounding this will become the placenta and umbilical 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http://3.bp.blogspot.com/-9c-98ct1KwY/TdWGf8bmecI/AAAAAAAAAFc/jkR1bHuosJQ/s1600/Blastocyst.gif"/>
          <p:cNvPicPr/>
          <p:nvPr/>
        </p:nvPicPr>
        <p:blipFill>
          <a:blip r:embed="rId1"/>
          <a:stretch/>
        </p:blipFill>
        <p:spPr>
          <a:xfrm>
            <a:off x="5181480" y="380880"/>
            <a:ext cx="3824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astr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M differentiates into three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cotoderm – skin and nervous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doderm – lining of digestive track and internal org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oderm – inner tissue and org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6:25:52Z</dcterms:created>
  <dc:creator>ED18</dc:creator>
  <dc:description/>
  <dc:language>en-US</dc:language>
  <cp:lastModifiedBy>ED18</cp:lastModifiedBy>
  <dcterms:modified xsi:type="dcterms:W3CDTF">2012-05-31T12:57:18Z</dcterms:modified>
  <cp:revision>4</cp:revision>
  <dc:subject/>
  <dc:title>Fertilization and Development</dc:title>
</cp:coreProperties>
</file>